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84DD-37FA-4EFF-B5C0-971D41884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1E95-C0FF-47DA-ACF5-3EAD8F21B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D15D-C92C-40C4-84F0-0B3D5FF46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90B4-BEC7-4EA9-85AC-B40587BFB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6DFD-74F8-4ACD-9E4D-05550E762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829A-2C6D-40A6-B702-C6C3DE557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B2D1-2020-4F33-8915-8CD95E7CB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99FF-7D4D-4EE2-A8CE-3D6829991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C85E-5E2B-4787-8F41-68CE8993D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1EF9-BC34-4734-A9D9-6BA3B5D5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78CB-3B66-4522-8A31-1D20DFDF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238A-C1AC-4C7E-8D14-B9DC8526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3579B-11B6-458E-B5F4-B9DC6038D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ashot  feelings  </a:t>
            </a:r>
            <a:br>
              <a:rPr sz="4400"/>
            </a:b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איך  אתה   מרגיש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90720" y="2514600"/>
            <a:ext cx="7467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000" spc="-1" strike="noStrike">
                <a:solidFill>
                  <a:srgbClr val="000000"/>
                </a:solidFill>
                <a:latin typeface="Arial"/>
              </a:rPr>
              <a:t>מתרגש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514600" y="2990880"/>
            <a:ext cx="297180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_ __   __ __ __ __ __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>
                <a:solidFill>
                  <a:srgbClr val="000000"/>
                </a:solidFill>
                <a:latin typeface="Arial"/>
              </a:rPr>
              <a:t>מלא   תקווה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809880" y="3048120"/>
            <a:ext cx="3238560" cy="32241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371600" y="3505320"/>
            <a:ext cx="217800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לאונרדו  __ __ __ __ __ בבר רפאלי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000000"/>
                </a:solidFill>
                <a:latin typeface="Arial"/>
              </a:rPr>
              <a:t>מאוהב</a:t>
            </a:r>
            <a:r>
              <a:rPr b="1" lang="he-IL" sz="5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600360" y="1981080"/>
            <a:ext cx="2743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הילדה  __ __ __ __ 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רגוע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רגועה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209680" y="1752480"/>
            <a:ext cx="45720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he-IL" sz="7200" spc="-1" strike="noStrike">
                <a:solidFill>
                  <a:srgbClr val="000000"/>
                </a:solidFill>
                <a:latin typeface="Arial"/>
              </a:rPr>
              <a:t>עמוס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US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806560" y="1600200"/>
            <a:ext cx="41925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e-IL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e-IL" sz="7200" spc="-1" strike="noStrike">
                <a:solidFill>
                  <a:srgbClr val="000000"/>
                </a:solidFill>
                <a:latin typeface="Arial"/>
              </a:rPr>
              <a:t>לחוץ</a:t>
            </a:r>
            <a:r>
              <a:rPr b="1" lang="he-IL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CHUTZ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371600" y="320040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835520" y="2514600"/>
            <a:ext cx="30924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e-IL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e-IL" sz="8000" spc="-1" strike="noStrike">
                <a:solidFill>
                  <a:srgbClr val="000000"/>
                </a:solidFill>
                <a:latin typeface="Arial"/>
              </a:rPr>
              <a:t>תשוש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SHUSH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138480" y="1600200"/>
            <a:ext cx="2865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יזהר  ( חבר)    תשוש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255276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ילד    תשוש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90720" y="2793960"/>
            <a:ext cx="453384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yuash 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יואש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per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981080" y="2133720"/>
            <a:ext cx="39182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153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000000"/>
                </a:solidFill>
                <a:latin typeface="Arial"/>
              </a:rPr>
              <a:t>שמח</a:t>
            </a:r>
            <a:r>
              <a:rPr b="1" lang="he-IL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he-IL" sz="5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MEACH 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438280" y="2590920"/>
            <a:ext cx="529596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zbani -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עצבני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6629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rvou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362320" y="3238560"/>
            <a:ext cx="222876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bulbal 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בולבל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570040" y="2282760"/>
            <a:ext cx="2814840" cy="39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אדיש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ffer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438280" y="2938320"/>
            <a:ext cx="44960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es  -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כועס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857760" y="2714760"/>
            <a:ext cx="300024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400" spc="-1" strike="noStrike">
                <a:solidFill>
                  <a:srgbClr val="000000"/>
                </a:solidFill>
                <a:latin typeface="Arial"/>
              </a:rPr>
              <a:t>לחוץ</a:t>
            </a:r>
            <a:r>
              <a:rPr b="0" lang="he-IL" sz="5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505320" y="1981080"/>
            <a:ext cx="25765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עמוס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806560" y="1600200"/>
            <a:ext cx="41925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_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>
                <a:solidFill>
                  <a:srgbClr val="000000"/>
                </a:solidFill>
                <a:latin typeface="Arial"/>
              </a:rPr>
              <a:t>עצבני</a:t>
            </a:r>
            <a:r>
              <a:rPr b="1" lang="he-IL" sz="6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362320" y="2894040"/>
            <a:ext cx="320040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כועס</a:t>
            </a: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429000" y="2895480"/>
            <a:ext cx="300024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__ 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>
                <a:solidFill>
                  <a:srgbClr val="000000"/>
                </a:solidFill>
                <a:latin typeface="Arial"/>
              </a:rPr>
              <a:t>מבולבל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9880" y="2743200"/>
            <a:ext cx="2814840" cy="39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תשוש</a:t>
            </a: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209680" y="2895480"/>
            <a:ext cx="5276880" cy="833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tragesh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תרגש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505320" y="1649520"/>
            <a:ext cx="396216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__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מיואש</a:t>
            </a: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600200" y="3200400"/>
            <a:ext cx="3033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000" spc="-1" strike="noStrike">
                <a:solidFill>
                  <a:srgbClr val="000000"/>
                </a:solidFill>
                <a:latin typeface="Arial"/>
              </a:rPr>
              <a:t>עצוב</a:t>
            </a:r>
            <a:r>
              <a:rPr b="1" lang="he-IL" sz="8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752480" y="297180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אני  עצוב  כש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 AM  SAD  WHEN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286000" y="3505320"/>
            <a:ext cx="232416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אני  שמח  כש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M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PPY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N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3924360" cy="26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אני  __ __ __ __ __כש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400" spc="-1" strike="noStrike">
                <a:solidFill>
                  <a:srgbClr val="000000"/>
                </a:solidFill>
                <a:latin typeface="Arial"/>
              </a:rPr>
              <a:t>מיואש</a:t>
            </a:r>
            <a:r>
              <a:rPr b="0" lang="he-IL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perat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124080" y="1828800"/>
            <a:ext cx="27799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אני __ __ __ __  כש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תשוש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657600" y="2590920"/>
            <a:ext cx="228600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אני  __ __ __ __ __ __  כש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מבולבל</a:t>
            </a: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191120" y="2895480"/>
            <a:ext cx="2327040" cy="32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אני  __ __ __ __ כש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עמוס</a:t>
            </a: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200400" y="3048120"/>
            <a:ext cx="30891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אני  __ __ __ __  כש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לחוץ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505320" y="1447920"/>
            <a:ext cx="27637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אני  __ __ __ __  כש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תשוש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809880" y="1523880"/>
            <a:ext cx="228600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le   TIKVA 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לא  תקוו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pefu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90720" y="2284560"/>
            <a:ext cx="323856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כשאני  מאוהב   אני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....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800600" y="1371600"/>
            <a:ext cx="2708280" cy="36115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2286000" y="1371600"/>
            <a:ext cx="213372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     __ __ __ _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שמח                      -   עצו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09480" y="251460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609480" y="251460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3733920" y="2514600"/>
            <a:ext cx="361944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    __ __ __ __ 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רגוע  (ה)                         עצבני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2590560" cy="23464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3581280" y="2438280"/>
            <a:ext cx="259092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_______   -  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מלא   תקווה                מיואש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962520" y="2514600"/>
            <a:ext cx="2095560" cy="33526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685800" y="2743200"/>
            <a:ext cx="25909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לא  תקוו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334332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אוהב (מאוהבים)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UHAV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95280" y="2286000"/>
            <a:ext cx="2190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לאונרדו  _ __ __ __ __ בבר  רפאלי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288936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רגוע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AGUA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הילדה   במים  רגועה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905120" y="3048120"/>
            <a:ext cx="4114800" cy="30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 __ _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000000"/>
                </a:solidFill>
                <a:latin typeface="Arial"/>
              </a:rPr>
              <a:t>שמח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438280" y="2590920"/>
            <a:ext cx="529596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7T18:37:55Z</dcterms:created>
  <dc:creator>Preferred Customer</dc:creator>
  <dc:description/>
  <dc:language>en-US</dc:language>
  <cp:lastModifiedBy>aschlezinger</cp:lastModifiedBy>
  <dcterms:modified xsi:type="dcterms:W3CDTF">2010-11-04T20:56:27Z</dcterms:modified>
  <cp:revision>3</cp:revision>
  <dc:subject/>
  <dc:title>Regashot  feelings   איך  אתה   מרגיש  ? </dc:title>
</cp:coreProperties>
</file>